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E687D-A994-44CE-BE38-FA45BC1DFC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099CB-365E-456E-A1E0-C7CCC930991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6EDED-1816-4401-B40B-ADB8A854310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20A56-9D79-4D2F-8BCF-7FA16DB70D3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A0004F-B975-45FD-BE80-4CBCF03E82A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BB098-F72E-467B-9FB5-7C745080599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169EA-C634-4E24-AD89-4168DFED744F}" type="slidenum">
              <a:rPr b="1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B0856-446B-4957-A6C2-27520D7DDE07}" type="slidenum">
              <a:rPr b="1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6A889-B8B5-42A8-B297-05C62EA2829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54DD3-D20C-43DD-BFB7-F929825A4BCB}" type="slidenum">
              <a:rPr b="1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3CDD3-4ED8-4361-9810-3CF5B5EA775E}" type="slidenum">
              <a:rPr b="1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DD0AE-6851-4549-8F44-21D3E0BC563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3849840" y="9429840"/>
            <a:ext cx="29383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E8316-ED1D-4F44-AE49-28E14F14AC58}" type="slidenum">
              <a:rPr b="1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B2CFF-3D38-4005-9520-1E66FF3A68CA}" type="slidenum">
              <a:rPr b="1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4200" cy="44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E713A-1804-4422-85CD-A9FA8F5ACE6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322E7-F9CD-4715-82BC-9C158D69048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0B227-F74E-475A-86B0-DF702453AD3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9CE5C-2179-48E8-8F9D-1C7F70CB3CB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1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CDE4A-0245-4553-9D27-93B58A8B528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40E9A-4C86-494E-B75A-A9F35BBFB5B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8A8D6-0AEC-467B-9A9B-27899614E82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2F9BA-F821-4F0C-B4F6-AC7F94DB320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ADCFD-F17F-4A46-A7C3-AF711B31E6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AD987-764A-413F-B052-644BB71648F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CB8CA-13A8-4E46-85DE-7125B5BA1D4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740E0-647A-44B2-84E2-832F5CDEF79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C5B1-6A02-4F9A-AD3D-2A883D5A1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DA223-2625-4FF9-89DB-41148E2F5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1A5F-7253-4A40-85A3-7DB9E2683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08CA-9D33-40FE-B528-58F6EE416F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36A7-1970-4D72-B609-71AFB7CBF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9276-8442-44B9-812E-0A652FFC6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766AA-83AA-49E4-B0C5-5331D5F83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5504-B221-445E-98C0-BC26132E2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D11E6-B9F1-46ED-A3F2-0D620228A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1EF0-FF7C-4931-8472-DF0DAD49B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1952-77A1-4656-BCD5-18E00FC35A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7BDF-BC0A-4FAE-A588-E172F7296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D4D9E1-DFC5-4963-B57F-B95EA1F6F859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ВЕРХНЕРАГОЗЕЦКОГО СЕЛЬСОВЕТА 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СОВЕТСКОГО РАЙОНА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24000" y="591012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Краснодолинского с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13.12.2016 года № 31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«О бюджете  Краснодолинского сельсовета Советского района  Курской области на 2017 год и плановый период 2018-2019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6" descr="G:\ФОТО ВУС\IMG_20150729_104222.jpg"/>
          <p:cNvPicPr/>
          <p:nvPr/>
        </p:nvPicPr>
        <p:blipFill>
          <a:blip r:embed="rId1"/>
          <a:stretch/>
        </p:blipFill>
        <p:spPr>
          <a:xfrm>
            <a:off x="5429160" y="3286080"/>
            <a:ext cx="3213360" cy="2624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G:\ФОТО ВУС\DSCF0843.JPG"/>
          <p:cNvPicPr/>
          <p:nvPr/>
        </p:nvPicPr>
        <p:blipFill>
          <a:blip r:embed="rId2"/>
          <a:stretch/>
        </p:blipFill>
        <p:spPr>
          <a:xfrm>
            <a:off x="1000080" y="3357720"/>
            <a:ext cx="3214800" cy="2500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http://player.myshared.ru/29/1306413/slides/slide_1.jpg"/>
          <p:cNvPicPr/>
          <p:nvPr/>
        </p:nvPicPr>
        <p:blipFill>
          <a:blip r:embed="rId3"/>
          <a:stretch/>
        </p:blipFill>
        <p:spPr>
          <a:xfrm>
            <a:off x="0" y="-671400"/>
            <a:ext cx="9252000" cy="752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Верхнерагозец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24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42920" y="836640"/>
          <a:ext cx="7345440" cy="4994280"/>
        </p:xfrm>
        <a:graphic>
          <a:graphicData uri="http://schemas.openxmlformats.org/drawingml/2006/table">
            <a:tbl>
              <a:tblPr/>
              <a:tblGrid>
                <a:gridCol w="525600"/>
                <a:gridCol w="4149720"/>
                <a:gridCol w="267012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5820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2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708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88,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5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34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44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24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1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02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9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14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9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труктура расходов бюджета Верхнерагозец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по разделам функциональной классификации на 2025 и 2026 годы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42920" y="1052640"/>
          <a:ext cx="7345440" cy="5149800"/>
        </p:xfrm>
        <a:graphic>
          <a:graphicData uri="http://schemas.openxmlformats.org/drawingml/2006/table">
            <a:tbl>
              <a:tblPr/>
              <a:tblGrid>
                <a:gridCol w="385920"/>
                <a:gridCol w="3043080"/>
                <a:gridCol w="1957320"/>
                <a:gridCol w="195912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084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62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52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00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75,9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92,6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2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48 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62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10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13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02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988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0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13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7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7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77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85840" y="2000160"/>
          <a:ext cx="8756640" cy="2675160"/>
        </p:xfrm>
        <a:graphic>
          <a:graphicData uri="http://schemas.openxmlformats.org/drawingml/2006/table">
            <a:tbl>
              <a:tblPr/>
              <a:tblGrid>
                <a:gridCol w="3854520"/>
                <a:gridCol w="1081080"/>
                <a:gridCol w="1584000"/>
                <a:gridCol w="1152720"/>
                <a:gridCol w="1084320"/>
              </a:tblGrid>
              <a:tr h="1065240"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4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5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221760" bIns="54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26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65320">
                <a:tc>
                  <a:txBody>
                    <a:bodyPr lIns="36000" rIns="36000" tIns="227520" bIns="36000" anchor="t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лата пенсий за выслугу лет и доплат к пенсиям муниципальных служащих Верхнерагозец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8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4600">
                <a:tc gridSpan="2"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8,0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36000" rIns="36000" tIns="227520" bIns="360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7,1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Верхнерагозец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4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14200" y="1143000"/>
          <a:ext cx="8294760" cy="5143680"/>
        </p:xfrm>
        <a:graphic>
          <a:graphicData uri="http://schemas.openxmlformats.org/drawingml/2006/table">
            <a:tbl>
              <a:tblPr/>
              <a:tblGrid>
                <a:gridCol w="5424480"/>
                <a:gridCol w="1650960"/>
                <a:gridCol w="1219320"/>
              </a:tblGrid>
              <a:tr h="638280"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28620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4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02,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19188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Верхнерагозец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74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472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27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бюджета Верхнерагозецкого сельсовета</a:t>
            </a:r>
            <a:br>
              <a:rPr sz="2000"/>
            </a:b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25 и 2026 годы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14200" y="1143000"/>
          <a:ext cx="8534520" cy="5170320"/>
        </p:xfrm>
        <a:graphic>
          <a:graphicData uri="http://schemas.openxmlformats.org/drawingml/2006/table">
            <a:tbl>
              <a:tblPr/>
              <a:tblGrid>
                <a:gridCol w="4305240"/>
                <a:gridCol w="1206720"/>
                <a:gridCol w="934920"/>
                <a:gridCol w="1104840"/>
                <a:gridCol w="119160"/>
                <a:gridCol w="863640"/>
              </a:tblGrid>
              <a:tr h="638280"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286200" bIns="46800" anchor="b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240">
                <a:tc rowSpan="2">
                  <a:txBody>
                    <a:bodyPr lIns="90000" rIns="90000" tIns="28620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marL="343080" indent="-333720" algn="ct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3832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3720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62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552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84200">
                <a:tc>
                  <a:txBody>
                    <a:bodyPr lIns="36000" rIns="36000" tIns="19188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20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Верхнерагозец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5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1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4360">
                <a:tc>
                  <a:txBody>
                    <a:bodyPr lIns="36000" rIns="36000" tIns="227520" bIns="36000" anchor="b">
                      <a:noAutofit/>
                    </a:bodyPr>
                    <a:p>
                      <a:pPr>
                        <a:lnSpc>
                          <a:spcPct val="7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66,8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2">
                  <a:txBody>
                    <a:bodyPr lIns="36000" rIns="36000" tIns="203760" bIns="36000" anchor="b">
                      <a:noAutofit/>
                    </a:bodyPr>
                    <a:p>
                      <a:pPr marL="343080" indent="-333720" algn="r">
                        <a:lnSpc>
                          <a:spcPct val="74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40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203760" bIns="360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TextBox 2"/>
          <p:cNvGrpSpPr/>
          <p:nvPr/>
        </p:nvGrpSpPr>
        <p:grpSpPr>
          <a:xfrm>
            <a:off x="165240" y="390600"/>
            <a:ext cx="8881920" cy="609480"/>
            <a:chOff x="165240" y="390600"/>
            <a:chExt cx="8881920" cy="609480"/>
          </a:xfrm>
        </p:grpSpPr>
        <p:pic>
          <p:nvPicPr>
            <p:cNvPr id="91" name="TextBox 2" descr=""/>
            <p:cNvPicPr/>
            <p:nvPr/>
          </p:nvPicPr>
          <p:blipFill>
            <a:blip r:embed="rId1"/>
            <a:stretch/>
          </p:blipFill>
          <p:spPr>
            <a:xfrm>
              <a:off x="165240" y="390600"/>
              <a:ext cx="8881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79280" y="404640"/>
              <a:ext cx="88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ff0000"/>
                  </a:solidFill>
                  <a:latin typeface="Arial"/>
                </a:rPr>
                <a:t>Расходы бюджета Верхнерагозецкого сельсовета Советского района Курской области на 2024 год в разрезе муниципальных программ (1)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" name="TextBox 4"/>
          <p:cNvGrpSpPr/>
          <p:nvPr/>
        </p:nvGrpSpPr>
        <p:grpSpPr>
          <a:xfrm>
            <a:off x="128520" y="1011240"/>
            <a:ext cx="8955000" cy="762120"/>
            <a:chOff x="128520" y="1011240"/>
            <a:chExt cx="8955000" cy="762120"/>
          </a:xfrm>
        </p:grpSpPr>
        <p:pic>
          <p:nvPicPr>
            <p:cNvPr id="94" name="TextBox 4" descr=""/>
            <p:cNvPicPr/>
            <p:nvPr/>
          </p:nvPicPr>
          <p:blipFill>
            <a:blip r:embed="rId2"/>
            <a:stretch/>
          </p:blipFill>
          <p:spPr>
            <a:xfrm>
              <a:off x="128520" y="1011240"/>
              <a:ext cx="89550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79280" y="1052640"/>
              <a:ext cx="885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ru-RU" sz="16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Расходы на реализацию муниципальных программ Верхнерагозецкого сельсовета Советского района Курской области – 1 074,6 тыс. рублей, в том числе по направлениям: </a:t>
              </a:r>
              <a:endParaRPr b="1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6" name=""/>
          <p:cNvGraphicFramePr/>
          <p:nvPr/>
        </p:nvGraphicFramePr>
        <p:xfrm>
          <a:off x="179280" y="1916280"/>
          <a:ext cx="8856720" cy="4817880"/>
        </p:xfrm>
        <a:graphic>
          <a:graphicData uri="http://schemas.openxmlformats.org/drawingml/2006/table">
            <a:tbl>
              <a:tblPr/>
              <a:tblGrid>
                <a:gridCol w="7624800"/>
                <a:gridCol w="123192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, 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Социальная поддержка граждан Верхнерагозецкого сельсовет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8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52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Администрации  Верхнерагозецкого сельсовет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54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укрепление материально-технической базы муниципального образования «Верхнерагозец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,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3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Верхнерагозецкий сельсовет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Управление муниципальным имуществом и земельными ресурсами Верхнерагозецкого сельсовета Советского района Курской области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Обеспечение доступным и комфортным жильем и коммунальными услугами граждан в муниципальном образовании «Верхнерагозецкий сельсовет Советского района Курской области» Благоустройство населенных пунктов в Верхнерагозецком сельсовете Советского района Курской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Верхнерагозецкого сельсовета Советского района Курской области на 2024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14720" y="3786120"/>
          <a:ext cx="4373280" cy="2286000"/>
        </p:xfrm>
        <a:graphic>
          <a:graphicData uri="http://schemas.openxmlformats.org/drawingml/2006/table">
            <a:tbl>
              <a:tblPr/>
              <a:tblGrid>
                <a:gridCol w="437328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29"/>
          <p:cNvSpPr/>
          <p:nvPr/>
        </p:nvSpPr>
        <p:spPr>
          <a:xfrm>
            <a:off x="571680" y="196992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374760" y="631800"/>
            <a:ext cx="83944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Верхнерагозецкого сельсовета Советского района Курской области на 2025 и 2026 годы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679320" y="3500280"/>
            <a:ext cx="7321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14720" y="3933720"/>
          <a:ext cx="4373280" cy="1901880"/>
        </p:xfrm>
        <a:graphic>
          <a:graphicData uri="http://schemas.openxmlformats.org/drawingml/2006/table">
            <a:tbl>
              <a:tblPr/>
              <a:tblGrid>
                <a:gridCol w="2187360"/>
                <a:gridCol w="2185920"/>
              </a:tblGrid>
              <a:tr h="536760">
                <a:tc>
                  <a:txBody>
                    <a:bodyPr tIns="684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684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tIns="511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tIns="511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6360">
                <a:tc>
                  <a:txBody>
                    <a:bodyPr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6" name="Text Box 29"/>
          <p:cNvSpPr/>
          <p:nvPr/>
        </p:nvSpPr>
        <p:spPr>
          <a:xfrm>
            <a:off x="571680" y="2205000"/>
            <a:ext cx="47145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Times New Roman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Times New Roman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Краснодолин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Верхнерагозецкого сельсовета Советского района Курской области на 2024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. В. Драчевская– начальник отдела бухгалтерского учёта и отчётности Верхнерагозец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Верхнерагозец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306626, Курская область, Советский район д. Ефросимовка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Администрация Верхнерагозец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тел.: (47158) 3-35-14 ; 89192759047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Факс: (47158) 3-35-4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Times New Roman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erhneragozeckiy@mail.ru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шению Собрания депутатов Верхнерагозецкого сельсовета Советского района Курской области от 13 декабря 2023 года  №19 «О бюджете муниципального образования «Верхнерагозецкий сельсовет» Советского района Курской области на 2024 год и плановый период 2025 и 2026 год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7" descr="777.jpg"/>
          <p:cNvPicPr/>
          <p:nvPr/>
        </p:nvPicPr>
        <p:blipFill>
          <a:blip r:embed="rId1"/>
          <a:stretch/>
        </p:blipFill>
        <p:spPr>
          <a:xfrm>
            <a:off x="457200" y="2516040"/>
            <a:ext cx="4037040" cy="2691000"/>
          </a:xfrm>
          <a:prstGeom prst="rect">
            <a:avLst/>
          </a:prstGeom>
          <a:ln w="0">
            <a:noFill/>
          </a:ln>
        </p:spPr>
      </p:pic>
      <p:pic>
        <p:nvPicPr>
          <p:cNvPr id="57" name="Содержимое 6" descr="555.jpg"/>
          <p:cNvPicPr/>
          <p:nvPr/>
        </p:nvPicPr>
        <p:blipFill>
          <a:blip r:embed="rId2"/>
          <a:stretch/>
        </p:blipFill>
        <p:spPr>
          <a:xfrm>
            <a:off x="4646520" y="2481120"/>
            <a:ext cx="403704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Верхнерагозецкого сельсовета Советского района Курской области              на 2024 год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4360" y="2133720"/>
          <a:ext cx="7964280" cy="3827520"/>
        </p:xfrm>
        <a:graphic>
          <a:graphicData uri="http://schemas.openxmlformats.org/drawingml/2006/table">
            <a:tbl>
              <a:tblPr/>
              <a:tblGrid>
                <a:gridCol w="4028760"/>
                <a:gridCol w="3935520"/>
              </a:tblGrid>
              <a:tr h="400320">
                <a:tc>
                  <a:txBody>
                    <a:bodyPr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2024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902,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902,4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Основные характеристики  бюджета Верхнерагозецкого сельсовета Советского района Курской области              на 2025 и 2026 годов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4360" y="2133720"/>
          <a:ext cx="7964280" cy="3827520"/>
        </p:xfrm>
        <a:graphic>
          <a:graphicData uri="http://schemas.openxmlformats.org/drawingml/2006/table">
            <a:tbl>
              <a:tblPr/>
              <a:tblGrid>
                <a:gridCol w="2697120"/>
                <a:gridCol w="2633400"/>
                <a:gridCol w="2633760"/>
              </a:tblGrid>
              <a:tr h="400320">
                <a:tc>
                  <a:txBody>
                    <a:bodyPr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tIns="79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3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83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 на  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562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 552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92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562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 552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480">
                <a:tc>
                  <a:txBody>
                    <a:bodyPr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,00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>Мария Драчевская</dc:creator>
  <dc:description/>
  <dc:language>en-US</dc:language>
  <cp:lastModifiedBy>ГлавБух</cp:lastModifiedBy>
  <dcterms:modified xsi:type="dcterms:W3CDTF">2025-02-14T12:17:42Z</dcterms:modified>
  <cp:revision>512</cp:revision>
  <dc:subject/>
  <dc:title>Слайд 1</dc:title>
</cp:coreProperties>
</file>