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jpeg" ContentType="image/jpe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DD11C-D241-40F4-9DFC-9872E7AA15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AD19F-69A1-4EEF-9DD3-D1D53A00F2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86140-797F-4E54-9862-3368338F4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05036-7041-4FE2-823D-627791FD2C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E1DE9-F8DB-41BB-90AF-8929902CFD0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6E3C-696B-4746-9243-BB7ECD2409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E50DF-49DB-44A6-9F8D-F22DB4F851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084DD-882E-4460-82E2-0953D98F2D8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5D63A-3B44-4E59-90C7-74EF4C00BA7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25C6D-6CF2-4031-928C-E38A835181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2F2B5-957C-4438-86BB-EEC61729CEAE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1BAB3-1AD3-4777-A12B-2D38021A8F82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393F8-F4B5-443D-A702-8EBF3C8A52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757F8-17D7-4E2D-AFFF-25787CFEF309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17124-5453-4F59-8C92-67B9E1D2552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89B4E-A108-4F77-A2EB-49C1FA873CC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537B-07CB-4567-B5E8-A22BE00FE7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78969-5179-46E4-B8F7-AC1E60F6FC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A0E4C-5270-4CED-B474-694D2A712A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47EBE-C372-457B-9241-57F1DE07E2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666F9-4A97-4E7C-BC89-1B66BF31FD9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16B0F-E8EE-4805-884C-0A279725C9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E9C63-078E-4FC9-BF04-9C3EEC371D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2A81E-3BC9-4D0E-87C7-99A5024257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CD3AB-DB48-4792-BCF8-C28AA5B318F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59F42-14DC-441A-A5B9-53A3745CE9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B8685-6CA4-469F-BDB0-41D3756E15D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A151-EA03-4EFF-86EA-23B60AB26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FE95-F6DA-4768-9778-F07B19A16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E470-4875-4EA8-AEC5-998B6739F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DB9B-E090-410F-8BC2-52E11FFF5E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9FC7-B4C0-404D-9FDB-BB49CFEE5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E217-D1CF-4ABA-AE0A-533817D9F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55BE-C82A-465E-B4C7-E071428BF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6543-B16C-4BE8-961C-067E2DB2D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B8B9-3B27-4DDF-81F0-E6EE38EC9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0547-C21C-474C-9D7C-85962837E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5D46-0DFC-47B2-80D9-090578FA7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EF18-D16A-45E3-ACCB-548C715BE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00D32E-081E-4950-B3D2-1F7262AD8D51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ВЕРХНЕРАГОЗЕЦ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4000" y="591012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3.12.2016 года № 31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17 год и плановый период 2018-2019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5429160" y="3286080"/>
            <a:ext cx="3213360" cy="26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G:\ФОТО ВУС\DSCF0843.JPG"/>
          <p:cNvPicPr/>
          <p:nvPr/>
        </p:nvPicPr>
        <p:blipFill>
          <a:blip r:embed="rId2"/>
          <a:stretch/>
        </p:blipFill>
        <p:spPr>
          <a:xfrm>
            <a:off x="1000080" y="3357720"/>
            <a:ext cx="3214800" cy="2500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player.myshared.ru/29/1306413/slides/slide_1.jpg"/>
          <p:cNvPicPr/>
          <p:nvPr/>
        </p:nvPicPr>
        <p:blipFill>
          <a:blip r:embed="rId3"/>
          <a:stretch/>
        </p:blipFill>
        <p:spPr>
          <a:xfrm>
            <a:off x="0" y="-671400"/>
            <a:ext cx="9252000" cy="75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2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36640"/>
          <a:ext cx="7345440" cy="4994280"/>
        </p:xfrm>
        <a:graphic>
          <a:graphicData uri="http://schemas.openxmlformats.org/drawingml/2006/table">
            <a:tbl>
              <a:tblPr/>
              <a:tblGrid>
                <a:gridCol w="525600"/>
                <a:gridCol w="4149720"/>
                <a:gridCol w="2670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820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51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8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22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5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2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44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2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9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9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3 и 2024 годы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1052640"/>
          <a:ext cx="7345440" cy="5149800"/>
        </p:xfrm>
        <a:graphic>
          <a:graphicData uri="http://schemas.openxmlformats.org/drawingml/2006/table">
            <a:tbl>
              <a:tblPr/>
              <a:tblGrid>
                <a:gridCol w="385920"/>
                <a:gridCol w="3043080"/>
                <a:gridCol w="1957320"/>
                <a:gridCol w="1959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084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65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4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52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52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2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5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8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10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13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98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0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3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77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2 году 1 500,4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111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Содержимое 7"/>
          <p:cNvGraphicFramePr/>
          <p:nvPr/>
        </p:nvGraphicFramePr>
        <p:xfrm>
          <a:off x="4606920" y="1663560"/>
          <a:ext cx="39783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Содержимое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6920" y="1663560"/>
                    <a:ext cx="39783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3 году 965,0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Содержимое 4"/>
          <p:cNvGraphicFramePr/>
          <p:nvPr/>
        </p:nvGraphicFramePr>
        <p:xfrm>
          <a:off x="4595760" y="1557360"/>
          <a:ext cx="397836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5760" y="1557360"/>
                    <a:ext cx="39783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Содержимое 7" descr="IMG_0413.JPG"/>
          <p:cNvPicPr/>
          <p:nvPr/>
        </p:nvPicPr>
        <p:blipFill>
          <a:blip r:embed="rId3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4 году 940,5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4" descr="333.jpg"/>
          <p:cNvPicPr/>
          <p:nvPr/>
        </p:nvPicPr>
        <p:blipFill>
          <a:blip r:embed="rId1"/>
          <a:stretch/>
        </p:blipFill>
        <p:spPr>
          <a:xfrm>
            <a:off x="457200" y="2673360"/>
            <a:ext cx="403704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Содержимое 4"/>
          <p:cNvGraphicFramePr/>
          <p:nvPr/>
        </p:nvGraphicFramePr>
        <p:xfrm>
          <a:off x="4691160" y="1568520"/>
          <a:ext cx="397800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Содержимое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91160" y="1568520"/>
                    <a:ext cx="397800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5840" y="2000160"/>
          <a:ext cx="8756640" cy="2675160"/>
        </p:xfrm>
        <a:graphic>
          <a:graphicData uri="http://schemas.openxmlformats.org/drawingml/2006/table">
            <a:tbl>
              <a:tblPr/>
              <a:tblGrid>
                <a:gridCol w="3854520"/>
                <a:gridCol w="1081080"/>
                <a:gridCol w="1584000"/>
                <a:gridCol w="1152720"/>
                <a:gridCol w="1084320"/>
              </a:tblGrid>
              <a:tr h="1065240"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2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3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4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65320">
                <a:tc>
                  <a:txBody>
                    <a:bodyPr lIns="36000" rIns="36000" tIns="227520" bIns="36000" anchor="t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600">
                <a:tc gridSpan="2"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2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1143000"/>
          <a:ext cx="8294760" cy="5143680"/>
        </p:xfrm>
        <a:graphic>
          <a:graphicData uri="http://schemas.openxmlformats.org/drawingml/2006/table">
            <a:tbl>
              <a:tblPr/>
              <a:tblGrid>
                <a:gridCol w="5424480"/>
                <a:gridCol w="1650960"/>
                <a:gridCol w="121932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51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Нижнеграйворо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93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5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72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8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4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3 и 2024 годы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4200" y="1143000"/>
          <a:ext cx="8534520" cy="5170320"/>
        </p:xfrm>
        <a:graphic>
          <a:graphicData uri="http://schemas.openxmlformats.org/drawingml/2006/table">
            <a:tbl>
              <a:tblPr/>
              <a:tblGrid>
                <a:gridCol w="4305240"/>
                <a:gridCol w="1206720"/>
                <a:gridCol w="933480"/>
                <a:gridCol w="1106280"/>
                <a:gridCol w="119160"/>
                <a:gridCol w="86364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65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44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4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24,1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7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9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36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1,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4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7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TextBox 2"/>
          <p:cNvGrpSpPr/>
          <p:nvPr/>
        </p:nvGrpSpPr>
        <p:grpSpPr>
          <a:xfrm>
            <a:off x="158760" y="384120"/>
            <a:ext cx="8893080" cy="622440"/>
            <a:chOff x="158760" y="384120"/>
            <a:chExt cx="8893080" cy="622440"/>
          </a:xfrm>
        </p:grpSpPr>
        <p:pic>
          <p:nvPicPr>
            <p:cNvPr id="103" name="TextBox 2" descr=""/>
            <p:cNvPicPr/>
            <p:nvPr/>
          </p:nvPicPr>
          <p:blipFill>
            <a:blip r:embed="rId1"/>
            <a:stretch/>
          </p:blipFill>
          <p:spPr>
            <a:xfrm>
              <a:off x="158760" y="384120"/>
              <a:ext cx="88930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9280" y="404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Расходы бюджета Верхнерагозецкого сельсовета Советского района Курской области на 2022 год в разрезе муниципальных программ (1)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TextBox 4"/>
          <p:cNvGrpSpPr/>
          <p:nvPr/>
        </p:nvGrpSpPr>
        <p:grpSpPr>
          <a:xfrm>
            <a:off x="122400" y="1006560"/>
            <a:ext cx="8966160" cy="706320"/>
            <a:chOff x="122400" y="1006560"/>
            <a:chExt cx="8966160" cy="706320"/>
          </a:xfrm>
        </p:grpSpPr>
        <p:pic>
          <p:nvPicPr>
            <p:cNvPr id="106" name="TextBox 4" descr=""/>
            <p:cNvPicPr/>
            <p:nvPr/>
          </p:nvPicPr>
          <p:blipFill>
            <a:blip r:embed="rId2"/>
            <a:stretch/>
          </p:blipFill>
          <p:spPr>
            <a:xfrm>
              <a:off x="122400" y="1006560"/>
              <a:ext cx="89661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79280" y="1052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Расходы на реализацию муниципальных программ Верхнерагозецкого сельсовета Советского района Курской области – 2 693,7тыс. рублей, в том числе по направлениям: 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179280" y="1916280"/>
          <a:ext cx="8856720" cy="4817880"/>
        </p:xfrm>
        <a:graphic>
          <a:graphicData uri="http://schemas.openxmlformats.org/drawingml/2006/table">
            <a:tbl>
              <a:tblPr/>
              <a:tblGrid>
                <a:gridCol w="7624800"/>
                <a:gridCol w="12319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Развитие культуры в муниципальном образовании «Верхнерагозецкий сельсовет» Советского района Курской области "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00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укрепление материально-технической базы муниципального образования «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 имуществом и земельными ресурсами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Верхнерагозецкий сельсовет Советского района Курской области» Благоустройство населенных пунктов в Верхнерагозецком сельсовете Советского района Курской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22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14720" y="3786120"/>
          <a:ext cx="4373280" cy="2286000"/>
        </p:xfrm>
        <a:graphic>
          <a:graphicData uri="http://schemas.openxmlformats.org/drawingml/2006/table">
            <a:tbl>
              <a:tblPr/>
              <a:tblGrid>
                <a:gridCol w="437328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шению Собрания депутатов Верхнерагозецкого сельсовета Советского района Курской области от 17 декабря 2021 года  №28 «О бюджете муниципального образования «Верхнерагозецкий сельсовет» Советского района Курской области на 2022 год и плановый период 2023 и 2024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7" descr="777.jpg"/>
          <p:cNvPicPr/>
          <p:nvPr/>
        </p:nvPicPr>
        <p:blipFill>
          <a:blip r:embed="rId1"/>
          <a:stretch/>
        </p:blipFill>
        <p:spPr>
          <a:xfrm>
            <a:off x="457200" y="2516040"/>
            <a:ext cx="4037040" cy="269100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6" descr="555.jpg"/>
          <p:cNvPicPr/>
          <p:nvPr/>
        </p:nvPicPr>
        <p:blipFill>
          <a:blip r:embed="rId2"/>
          <a:stretch/>
        </p:blipFill>
        <p:spPr>
          <a:xfrm>
            <a:off x="4646520" y="2481120"/>
            <a:ext cx="40370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374760" y="631800"/>
            <a:ext cx="83944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23 и 2024 го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679320" y="3500280"/>
            <a:ext cx="7321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14720" y="3933720"/>
          <a:ext cx="4373280" cy="1901880"/>
        </p:xfrm>
        <a:graphic>
          <a:graphicData uri="http://schemas.openxmlformats.org/drawingml/2006/table">
            <a:tbl>
              <a:tblPr/>
              <a:tblGrid>
                <a:gridCol w="2187360"/>
                <a:gridCol w="2185920"/>
              </a:tblGrid>
              <a:tr h="53820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456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29"/>
          <p:cNvSpPr/>
          <p:nvPr/>
        </p:nvSpPr>
        <p:spPr>
          <a:xfrm>
            <a:off x="571680" y="220500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Верхнерагозецкого сельсовета Советского района Курской области на 2022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. Кирсанова– начальник отдела бухгалтерского учёта и отчётности Верхнерагозец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Верхнерагозец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26, Курская область, Советский район д. Ефросим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Верхнерагозец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35-14 ; 89192759047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35-4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erhneragozeckiy@mail.ru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22 год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4028760"/>
                <a:gridCol w="393552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202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566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 791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5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23 и 2024 годов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2697120"/>
                <a:gridCol w="2633400"/>
                <a:gridCol w="263376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865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844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865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844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Мария Драчевская</dc:creator>
  <dc:description/>
  <dc:language>en-US</dc:language>
  <cp:lastModifiedBy>Драчевская</cp:lastModifiedBy>
  <dcterms:modified xsi:type="dcterms:W3CDTF">2023-02-16T09:02:21Z</dcterms:modified>
  <cp:revision>506</cp:revision>
  <dc:subject/>
  <dc:title>Слайд 1</dc:title>
</cp:coreProperties>
</file>