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55F5C-02A3-4302-B983-D509D36738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8271D-95F5-4ED9-88CF-53518CD4DF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AA39B-799B-4F0A-AC0E-4D031D385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BD9F8-030F-41E7-80E9-9EF9B8A0E0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998C0-C903-4BFF-906C-586EA67D20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5C62-9FB9-4AD2-9399-79DDD67227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C7757-64F0-411E-A046-19FBA0E9BA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5CFC-9166-441A-BE01-73F000F279B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ECE4C-9026-4DC3-89D9-95098F6A7EB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D81FA-4C0B-47E3-B9ED-872F074A87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EF13F-1EF3-4227-9273-296D7F0C82E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3787F-4C71-4A04-AF65-84AFFC2B331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931C7-8D2B-4FD0-A463-C54A14CBCC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5C03C-0B84-4E65-9796-EA7B3C16A44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6B67D-DC49-44DA-9A48-613CBF1F004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E04FD-8374-440B-9348-02533D0700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15BF0-3591-492F-88C2-8C213CB068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2A860-5094-42E5-9482-4952E6EC0B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409FE-A2F7-4C8D-89DC-3B692A54DD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421CF-2640-4386-899B-C21DBD3731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0F26A-84E0-4352-9B26-BF87B60A4A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EDC94-B6F5-45DC-B675-1959F9DCEE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8DFD-72C1-452B-86B9-7E98EE663D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8F88B-D29C-4B68-ACF6-356D2D1CB2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6DD5-F0B1-4D29-9493-1AF0B905DF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60453-DC3F-479F-8D67-322EF15064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F3EC-826C-4553-8A67-09DF2BC5EF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5DA1-090B-4344-BA96-EDB4BE349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C35B-3071-4437-AD61-F2D021562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05EF-6D7E-4A4B-9CA4-3052E8DC3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83D4-B7CC-4298-AFE6-1050EA89E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C6F0-E749-4B36-9F45-232082590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BA1A-57FE-4779-BFCC-73D405CB6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021A-25E8-475F-B632-0DF9093BF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5002-3C7B-4ECE-A44C-A2973C973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25B5-9F4E-4BA6-BF27-FB5CAD9AD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CC53-0514-4C04-9F7E-597DB3610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0B0D-9755-4E46-9043-523C0D81E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01EC-06FF-4D54-9B2B-FF943F9CC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C0E01C-2FA6-4398-A844-F2103DC3E164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ВЕРХНЕРАГОЗЕЦ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4000" y="591012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3.12.2016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7 год и плановый период 2018-2019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5429160" y="3286080"/>
            <a:ext cx="3213360" cy="26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1000080" y="335772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player.myshared.ru/29/1306413/slides/slide_1.jpg"/>
          <p:cNvPicPr/>
          <p:nvPr/>
        </p:nvPicPr>
        <p:blipFill>
          <a:blip r:embed="rId3"/>
          <a:stretch/>
        </p:blipFill>
        <p:spPr>
          <a:xfrm>
            <a:off x="0" y="-671400"/>
            <a:ext cx="9252000" cy="75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1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36640"/>
          <a:ext cx="7345440" cy="4994280"/>
        </p:xfrm>
        <a:graphic>
          <a:graphicData uri="http://schemas.openxmlformats.org/drawingml/2006/table">
            <a:tbl>
              <a:tblPr/>
              <a:tblGrid>
                <a:gridCol w="525600"/>
                <a:gridCol w="4149720"/>
                <a:gridCol w="2670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2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64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50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5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44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9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2 и 2023 годы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052640"/>
          <a:ext cx="7345440" cy="5149800"/>
        </p:xfrm>
        <a:graphic>
          <a:graphicData uri="http://schemas.openxmlformats.org/drawingml/2006/table">
            <a:tbl>
              <a:tblPr/>
              <a:tblGrid>
                <a:gridCol w="385920"/>
                <a:gridCol w="3043080"/>
                <a:gridCol w="1957320"/>
                <a:gridCol w="1959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084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1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71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7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4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0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3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10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9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3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7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1 году 1 319,0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11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Содержимое 7"/>
          <p:cNvGraphicFramePr/>
          <p:nvPr/>
        </p:nvGraphicFramePr>
        <p:xfrm>
          <a:off x="4606920" y="1662120"/>
          <a:ext cx="397836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Содержимое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6920" y="1662120"/>
                    <a:ext cx="397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2 году 810,3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Содержимое 4"/>
          <p:cNvGraphicFramePr/>
          <p:nvPr/>
        </p:nvGraphicFramePr>
        <p:xfrm>
          <a:off x="4595760" y="1557360"/>
          <a:ext cx="397836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5760" y="1557360"/>
                    <a:ext cx="39783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Содержимое 7" descr="IMG_0413.JPG"/>
          <p:cNvPicPr/>
          <p:nvPr/>
        </p:nvPicPr>
        <p:blipFill>
          <a:blip r:embed="rId3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3 году 810,3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333.jpg"/>
          <p:cNvPicPr/>
          <p:nvPr/>
        </p:nvPicPr>
        <p:blipFill>
          <a:blip r:embed="rId1"/>
          <a:stretch/>
        </p:blipFill>
        <p:spPr>
          <a:xfrm>
            <a:off x="457200" y="2673360"/>
            <a:ext cx="403704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Содержимое 4"/>
          <p:cNvGraphicFramePr/>
          <p:nvPr/>
        </p:nvGraphicFramePr>
        <p:xfrm>
          <a:off x="4687920" y="1555920"/>
          <a:ext cx="379260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7920" y="1555920"/>
                    <a:ext cx="3792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5840" y="2000160"/>
          <a:ext cx="8756640" cy="2675160"/>
        </p:xfrm>
        <a:graphic>
          <a:graphicData uri="http://schemas.openxmlformats.org/drawingml/2006/table">
            <a:tbl>
              <a:tblPr/>
              <a:tblGrid>
                <a:gridCol w="3854520"/>
                <a:gridCol w="1081080"/>
                <a:gridCol w="1584000"/>
                <a:gridCol w="1152720"/>
                <a:gridCol w="1084320"/>
              </a:tblGrid>
              <a:tr h="1065240"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2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3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5320">
                <a:tc>
                  <a:txBody>
                    <a:bodyPr lIns="36000" rIns="36000" tIns="227520" bIns="36000" anchor="t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600">
                <a:tc gridSpan="2"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1143000"/>
          <a:ext cx="8294760" cy="5143680"/>
        </p:xfrm>
        <a:graphic>
          <a:graphicData uri="http://schemas.openxmlformats.org/drawingml/2006/table">
            <a:tbl>
              <a:tblPr/>
              <a:tblGrid>
                <a:gridCol w="5424480"/>
                <a:gridCol w="1650960"/>
                <a:gridCol w="121932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64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Нижнеграйворо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9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72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4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2 и 2023 го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4200" y="1143000"/>
          <a:ext cx="8534520" cy="5170320"/>
        </p:xfrm>
        <a:graphic>
          <a:graphicData uri="http://schemas.openxmlformats.org/drawingml/2006/table">
            <a:tbl>
              <a:tblPr/>
              <a:tblGrid>
                <a:gridCol w="4305240"/>
                <a:gridCol w="1206720"/>
                <a:gridCol w="933480"/>
                <a:gridCol w="1106280"/>
                <a:gridCol w="119160"/>
                <a:gridCol w="86364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11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1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4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3,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6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36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7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1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extBox 2"/>
          <p:cNvGrpSpPr/>
          <p:nvPr/>
        </p:nvGrpSpPr>
        <p:grpSpPr>
          <a:xfrm>
            <a:off x="158760" y="384120"/>
            <a:ext cx="8893080" cy="622440"/>
            <a:chOff x="158760" y="384120"/>
            <a:chExt cx="8893080" cy="622440"/>
          </a:xfrm>
        </p:grpSpPr>
        <p:pic>
          <p:nvPicPr>
            <p:cNvPr id="103" name="TextBox 2" descr=""/>
            <p:cNvPicPr/>
            <p:nvPr/>
          </p:nvPicPr>
          <p:blipFill>
            <a:blip r:embed="rId1"/>
            <a:stretch/>
          </p:blipFill>
          <p:spPr>
            <a:xfrm>
              <a:off x="158760" y="384120"/>
              <a:ext cx="8893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9280" y="404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асходы бюджета Верхнерагозецкого сельсовета Советского района Курской области на 2021 год в разрезе муниципальных программ (1)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TextBox 4"/>
          <p:cNvGrpSpPr/>
          <p:nvPr/>
        </p:nvGrpSpPr>
        <p:grpSpPr>
          <a:xfrm>
            <a:off x="122400" y="1006560"/>
            <a:ext cx="8966160" cy="706320"/>
            <a:chOff x="122400" y="1006560"/>
            <a:chExt cx="8966160" cy="706320"/>
          </a:xfrm>
        </p:grpSpPr>
        <p:pic>
          <p:nvPicPr>
            <p:cNvPr id="106" name="TextBox 4" descr=""/>
            <p:cNvPicPr/>
            <p:nvPr/>
          </p:nvPicPr>
          <p:blipFill>
            <a:blip r:embed="rId2"/>
            <a:stretch/>
          </p:blipFill>
          <p:spPr>
            <a:xfrm>
              <a:off x="122400" y="1006560"/>
              <a:ext cx="89661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79280" y="1052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Расходы на реализацию муниципальных программ Верхнерагозецкого сельсовета Советского района Курской области – 1 672,2 тыс. рублей, в том числе по направлениям: 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179280" y="1916280"/>
          <a:ext cx="8856720" cy="4817880"/>
        </p:xfrm>
        <a:graphic>
          <a:graphicData uri="http://schemas.openxmlformats.org/drawingml/2006/table">
            <a:tbl>
              <a:tblPr/>
              <a:tblGrid>
                <a:gridCol w="7624800"/>
                <a:gridCol w="1231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в муниципальном образовании «Верхнерагозецкий сельсовет» Советского района Курской области 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9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укрепление материально-технической базы муниципального образования «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рагозецкий сельсовет Советского района Курской области» Благоустройство населенных пунктов в Верхнерагозецком сельсовете Советского района Курской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1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14720" y="3786120"/>
          <a:ext cx="4373280" cy="2286000"/>
        </p:xfrm>
        <a:graphic>
          <a:graphicData uri="http://schemas.openxmlformats.org/drawingml/2006/table">
            <a:tbl>
              <a:tblPr/>
              <a:tblGrid>
                <a:gridCol w="437328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Верхнерагозецкого сельсовета Советского района Курской области от 15 декабря 2020 года  №9 «О бюджете муниципального образования «Верхнерагозецкий сельсовет» Советского района Курской области на 2021 год и плановый период 2022 и 2023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7" descr="777.jpg"/>
          <p:cNvPicPr/>
          <p:nvPr/>
        </p:nvPicPr>
        <p:blipFill>
          <a:blip r:embed="rId1"/>
          <a:stretch/>
        </p:blipFill>
        <p:spPr>
          <a:xfrm>
            <a:off x="457200" y="2516040"/>
            <a:ext cx="403704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555.jpg"/>
          <p:cNvPicPr/>
          <p:nvPr/>
        </p:nvPicPr>
        <p:blipFill>
          <a:blip r:embed="rId2"/>
          <a:stretch/>
        </p:blipFill>
        <p:spPr>
          <a:xfrm>
            <a:off x="4646520" y="2481120"/>
            <a:ext cx="4037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74760" y="631800"/>
            <a:ext cx="83944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2 и 2023 г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679320" y="3500280"/>
            <a:ext cx="732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14720" y="3933720"/>
          <a:ext cx="4373280" cy="1901880"/>
        </p:xfrm>
        <a:graphic>
          <a:graphicData uri="http://schemas.openxmlformats.org/drawingml/2006/table">
            <a:tbl>
              <a:tblPr/>
              <a:tblGrid>
                <a:gridCol w="2187360"/>
                <a:gridCol w="2185920"/>
              </a:tblGrid>
              <a:tr h="53820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456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29"/>
          <p:cNvSpPr/>
          <p:nvPr/>
        </p:nvSpPr>
        <p:spPr>
          <a:xfrm>
            <a:off x="571680" y="220500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Верхнерагозецкого сельсовета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. Кирсанова– начальник отдела бухгалтерского учёта и отчётности Верхнерагозец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Верхнерагозец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6, Курская область, Советский район д. Ефросим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Верхнерагозец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35-1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35-4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erhneragozeckiy@mail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1 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4028760"/>
                <a:gridCol w="393552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202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983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 174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1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1 и 2022 год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2697120"/>
                <a:gridCol w="2633400"/>
                <a:gridCol w="263376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511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471,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703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663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,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Мария Драчевская</dc:creator>
  <dc:description/>
  <dc:language>en-US</dc:language>
  <cp:lastModifiedBy>Драчевская</cp:lastModifiedBy>
  <dcterms:modified xsi:type="dcterms:W3CDTF">2022-03-03T21:16:42Z</dcterms:modified>
  <cp:revision>500</cp:revision>
  <dc:subject/>
  <dc:title>Слайд 1</dc:title>
</cp:coreProperties>
</file>