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47CF4-19DE-400B-99DD-FF39C5C95D0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E193E-5EE5-45D0-8276-A70668C829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A3FC0-0A5B-4BCC-B8D2-273AC58A5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5B19C-B093-4ED2-AC26-A8CEC719B2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849AA-0B54-4339-9EAC-F3D57EDA2F7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45FB4-B4E5-4BED-A222-818D77EBB83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D4BF4-417D-4087-A771-333B705327C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3E82E-C3DC-4B09-BB40-BE1827DF74C8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ACD09-5C8A-409F-A0A7-3B373191D549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995DF-19C8-436C-BB44-9AEF4F8004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2C788-A14A-4168-A17F-801C51CF37D7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A6CB0-5BBA-40E7-A327-673CB5AC3D6D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24191-B43B-43F3-9ADA-8D5F1542A9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C3BAC-674C-4D9D-B67A-58C5A09D527D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9FF6D-AE43-4141-98E1-FA790F299830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CE620-459C-4572-A452-546B5D345D7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69747-4767-4CC3-A299-256EF91577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6DFDF-7CDD-48EA-9472-22F3DA12AD5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932FD-5B6A-4EBB-93F1-E15FF421879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494DE-F862-47E5-A6C3-5BA92A2564C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AC4B6-30FA-492E-806C-C8E4F2EFF5B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2ADAD-0672-4B28-A483-A43887807C2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0E3FB-7272-4F51-B37C-32CD5A4AC3B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6C5C6-BD10-409E-9EAF-8F8C8F505B0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F3156-F7C3-4DD4-A437-F7E1CD33325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3E150-AAB9-4797-9ED2-BB88BE8622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5E04D-C252-4DAE-91B9-17AC4D41158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B835-CB0C-472F-BD79-B823AE01C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C287-233F-49ED-B866-47A7026ED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80FF-E6AC-4B4A-99E2-34C095BB9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E585-CDBD-4215-B8FE-44FE45A72D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D352-2A29-475C-9594-A6D525BC78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8335-39A5-4A8D-A7E1-0B055B99D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8DAE-3FDF-4A0D-83B3-169B94E90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0175-206C-48DB-9C71-240D35192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2D83-6AB8-419D-80A3-0E6301EAC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2DDE-6035-4767-8144-FE1424179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6D85-C182-4EFF-9F86-3665FC9F3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81B5-6C08-43EC-BC57-884642742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2C79D7-D9E5-467F-A530-8F75496D3815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ВЕРХНЕРАГОЗЕЦ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4000" y="591012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Краснодолин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3.12.2016 года № 31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Краснодолинского сельсовета Советского района  Курской области на 2017 год и плановый период 2018-2019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6" descr="G:\ФОТО ВУС\IMG_20150729_104222.jpg"/>
          <p:cNvPicPr/>
          <p:nvPr/>
        </p:nvPicPr>
        <p:blipFill>
          <a:blip r:embed="rId1"/>
          <a:stretch/>
        </p:blipFill>
        <p:spPr>
          <a:xfrm>
            <a:off x="5429160" y="3286080"/>
            <a:ext cx="3213360" cy="262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G:\ФОТО ВУС\DSCF0843.JPG"/>
          <p:cNvPicPr/>
          <p:nvPr/>
        </p:nvPicPr>
        <p:blipFill>
          <a:blip r:embed="rId2"/>
          <a:stretch/>
        </p:blipFill>
        <p:spPr>
          <a:xfrm>
            <a:off x="1000080" y="3357720"/>
            <a:ext cx="3214800" cy="2500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player.myshared.ru/29/1306413/slides/slide_1.jpg"/>
          <p:cNvPicPr/>
          <p:nvPr/>
        </p:nvPicPr>
        <p:blipFill>
          <a:blip r:embed="rId3"/>
          <a:stretch/>
        </p:blipFill>
        <p:spPr>
          <a:xfrm>
            <a:off x="0" y="-671400"/>
            <a:ext cx="9252000" cy="75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Верхнерагозец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20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42920" y="836640"/>
          <a:ext cx="7345440" cy="4994280"/>
        </p:xfrm>
        <a:graphic>
          <a:graphicData uri="http://schemas.openxmlformats.org/drawingml/2006/table">
            <a:tbl>
              <a:tblPr/>
              <a:tblGrid>
                <a:gridCol w="525600"/>
                <a:gridCol w="4149720"/>
                <a:gridCol w="267012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5820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10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8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0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5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0, 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44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24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1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1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14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0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14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9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Верхнерагозец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21 и 2022 годы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42920" y="1052640"/>
          <a:ext cx="7345440" cy="5149800"/>
        </p:xfrm>
        <a:graphic>
          <a:graphicData uri="http://schemas.openxmlformats.org/drawingml/2006/table">
            <a:tbl>
              <a:tblPr/>
              <a:tblGrid>
                <a:gridCol w="385920"/>
                <a:gridCol w="3043080"/>
                <a:gridCol w="1957320"/>
                <a:gridCol w="195912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084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43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50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0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3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2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10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13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2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98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47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49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3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77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20 году 1 310,5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4" descr="111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7040" cy="302724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7" descr=""/>
          <p:cNvPicPr/>
          <p:nvPr/>
        </p:nvPicPr>
        <p:blipFill>
          <a:blip r:embed="rId2"/>
          <a:stretch/>
        </p:blipFill>
        <p:spPr>
          <a:xfrm>
            <a:off x="4595760" y="1549440"/>
            <a:ext cx="413856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21 году 1 147,2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4" descr=""/>
          <p:cNvPicPr/>
          <p:nvPr/>
        </p:nvPicPr>
        <p:blipFill>
          <a:blip r:embed="rId1"/>
          <a:stretch/>
        </p:blipFill>
        <p:spPr>
          <a:xfrm>
            <a:off x="4595760" y="1549440"/>
            <a:ext cx="4138560" cy="462420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7" descr="IMG_0413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70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22 году 1 149,2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4" descr="333.jpg"/>
          <p:cNvPicPr/>
          <p:nvPr/>
        </p:nvPicPr>
        <p:blipFill>
          <a:blip r:embed="rId1"/>
          <a:stretch/>
        </p:blipFill>
        <p:spPr>
          <a:xfrm>
            <a:off x="457200" y="2673360"/>
            <a:ext cx="4037040" cy="237636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4" descr=""/>
          <p:cNvPicPr/>
          <p:nvPr/>
        </p:nvPicPr>
        <p:blipFill>
          <a:blip r:embed="rId2"/>
          <a:stretch/>
        </p:blipFill>
        <p:spPr>
          <a:xfrm>
            <a:off x="4595760" y="1549440"/>
            <a:ext cx="413856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85840" y="2000160"/>
          <a:ext cx="8756640" cy="2675160"/>
        </p:xfrm>
        <a:graphic>
          <a:graphicData uri="http://schemas.openxmlformats.org/drawingml/2006/table">
            <a:tbl>
              <a:tblPr/>
              <a:tblGrid>
                <a:gridCol w="3854520"/>
                <a:gridCol w="1081080"/>
                <a:gridCol w="1584000"/>
                <a:gridCol w="1152720"/>
                <a:gridCol w="1084320"/>
              </a:tblGrid>
              <a:tr h="1065240"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0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1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2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65320">
                <a:tc>
                  <a:txBody>
                    <a:bodyPr lIns="36000" rIns="36000" tIns="227520" bIns="36000" anchor="t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4600">
                <a:tc gridSpan="2"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Верхнерагозец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0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14200" y="1143000"/>
          <a:ext cx="8294760" cy="5143680"/>
        </p:xfrm>
        <a:graphic>
          <a:graphicData uri="http://schemas.openxmlformats.org/drawingml/2006/table">
            <a:tbl>
              <a:tblPr/>
              <a:tblGrid>
                <a:gridCol w="5424480"/>
                <a:gridCol w="1650960"/>
                <a:gridCol w="1219320"/>
              </a:tblGrid>
              <a:tr h="638280"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28620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10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19188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Нижнеграйворон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65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472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4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Верхнерагозец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1 и 2022 годы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4200" y="1143000"/>
          <a:ext cx="8534520" cy="5170320"/>
        </p:xfrm>
        <a:graphic>
          <a:graphicData uri="http://schemas.openxmlformats.org/drawingml/2006/table">
            <a:tbl>
              <a:tblPr/>
              <a:tblGrid>
                <a:gridCol w="4305240"/>
                <a:gridCol w="1206720"/>
                <a:gridCol w="933480"/>
                <a:gridCol w="1106280"/>
                <a:gridCol w="119160"/>
                <a:gridCol w="863640"/>
              </a:tblGrid>
              <a:tr h="638280"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28620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43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50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4200">
                <a:tc>
                  <a:txBody>
                    <a:bodyPr lIns="36000" rIns="36000" tIns="19188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1,7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36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436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2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4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TextBox 2"/>
          <p:cNvGrpSpPr/>
          <p:nvPr/>
        </p:nvGrpSpPr>
        <p:grpSpPr>
          <a:xfrm>
            <a:off x="158760" y="384120"/>
            <a:ext cx="8893080" cy="622440"/>
            <a:chOff x="158760" y="384120"/>
            <a:chExt cx="8893080" cy="622440"/>
          </a:xfrm>
        </p:grpSpPr>
        <p:pic>
          <p:nvPicPr>
            <p:cNvPr id="100" name="TextBox 2" descr=""/>
            <p:cNvPicPr/>
            <p:nvPr/>
          </p:nvPicPr>
          <p:blipFill>
            <a:blip r:embed="rId1"/>
            <a:stretch/>
          </p:blipFill>
          <p:spPr>
            <a:xfrm>
              <a:off x="158760" y="384120"/>
              <a:ext cx="88930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79280" y="404640"/>
              <a:ext cx="88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Расходы бюджета Верхнерагозецкого сельсовета Советского района Курской области на 2020 год в разрезе муниципальных программ (1)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TextBox 4"/>
          <p:cNvGrpSpPr/>
          <p:nvPr/>
        </p:nvGrpSpPr>
        <p:grpSpPr>
          <a:xfrm>
            <a:off x="122400" y="1006560"/>
            <a:ext cx="8966160" cy="706320"/>
            <a:chOff x="122400" y="1006560"/>
            <a:chExt cx="8966160" cy="706320"/>
          </a:xfrm>
        </p:grpSpPr>
        <p:pic>
          <p:nvPicPr>
            <p:cNvPr id="103" name="TextBox 4" descr=""/>
            <p:cNvPicPr/>
            <p:nvPr/>
          </p:nvPicPr>
          <p:blipFill>
            <a:blip r:embed="rId2"/>
            <a:stretch/>
          </p:blipFill>
          <p:spPr>
            <a:xfrm>
              <a:off x="122400" y="1006560"/>
              <a:ext cx="89661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9280" y="1052640"/>
              <a:ext cx="88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Расходы на реализацию муниципальных программ Верхнерагозецкого сельсовета Советского района Курской области – 1 965,8 тыс. рублей, в том числе по направлениям: 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179280" y="1916280"/>
          <a:ext cx="8856720" cy="4817880"/>
        </p:xfrm>
        <a:graphic>
          <a:graphicData uri="http://schemas.openxmlformats.org/drawingml/2006/table">
            <a:tbl>
              <a:tblPr/>
              <a:tblGrid>
                <a:gridCol w="7624800"/>
                <a:gridCol w="12319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Развитие культуры в муниципальном образовании «Верхнерагозецкий сельсовет» Советского района Курской области "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0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 Верхнерагозецкого сельсовета Советского района Курской области на 2015-2020 годы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укрепление материально-технической базы муниципального образования «Верхнерагозецкий сельсовет Советского района Курской области» на 2016-2020 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8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Верхнерагозец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правление муниципальным имуществом и земельными ресурсами Верхнерагозец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Верхнерагозецкий сельсовет Советского района Курской области» Благоустройство населенных пунктов в Верхнерагозецком сельсовете Советского района Курской области на 2017-2019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Верхнерагозецкого сельсовета Советского района Курской области на 2020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14720" y="3786120"/>
          <a:ext cx="4373280" cy="2286000"/>
        </p:xfrm>
        <a:graphic>
          <a:graphicData uri="http://schemas.openxmlformats.org/drawingml/2006/table">
            <a:tbl>
              <a:tblPr/>
              <a:tblGrid>
                <a:gridCol w="437328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0" name="Text Box 29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шению Собрания депутатов Верхнерагозецкого сельсовета Советского района Курской области от 13 декабря 2019 года  №16 «О бюджете муниципального образования «Верхнерагозецкий сельсовет» Советского района Курской области на 2020 год и плановый период 2021 и 2022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7" descr="777.jpg"/>
          <p:cNvPicPr/>
          <p:nvPr/>
        </p:nvPicPr>
        <p:blipFill>
          <a:blip r:embed="rId1"/>
          <a:stretch/>
        </p:blipFill>
        <p:spPr>
          <a:xfrm>
            <a:off x="457200" y="2516040"/>
            <a:ext cx="4037040" cy="269100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6" descr="555.jpg"/>
          <p:cNvPicPr/>
          <p:nvPr/>
        </p:nvPicPr>
        <p:blipFill>
          <a:blip r:embed="rId2"/>
          <a:stretch/>
        </p:blipFill>
        <p:spPr>
          <a:xfrm>
            <a:off x="4646520" y="2481120"/>
            <a:ext cx="40370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374760" y="631800"/>
            <a:ext cx="83944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Верхнерагозецкого сельсовета Советского района Курской области на 2021 и 2022 год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679320" y="3500280"/>
            <a:ext cx="7321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14720" y="3933720"/>
          <a:ext cx="4373280" cy="1901880"/>
        </p:xfrm>
        <a:graphic>
          <a:graphicData uri="http://schemas.openxmlformats.org/drawingml/2006/table">
            <a:tbl>
              <a:tblPr/>
              <a:tblGrid>
                <a:gridCol w="2187360"/>
                <a:gridCol w="2185920"/>
              </a:tblGrid>
              <a:tr h="53820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456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5" name="Text Box 29"/>
          <p:cNvSpPr/>
          <p:nvPr/>
        </p:nvSpPr>
        <p:spPr>
          <a:xfrm>
            <a:off x="571680" y="220500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Верхнерагозецкого сельсовета Советского района Курской области на 2016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В. Драчевская– начальник отдела бухгалтерского учёта и отчётности Верхнерагозец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Верхнерагозец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26, Курская область, Советский район д. Ефросимовк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Верхнерагозец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35-14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35-4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erhneragozeckiy@mail.ru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Верхнерагозецкого сельсовета Советского района Курской области              на 2020 год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2133720"/>
          <a:ext cx="7964280" cy="3827520"/>
        </p:xfrm>
        <a:graphic>
          <a:graphicData uri="http://schemas.openxmlformats.org/drawingml/2006/table">
            <a:tbl>
              <a:tblPr/>
              <a:tblGrid>
                <a:gridCol w="4028760"/>
                <a:gridCol w="393552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20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105,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 310,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5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Верхнерагозецкого сельсовета Советского района Курской области              на 2021 и 2022 годов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360" y="2133720"/>
          <a:ext cx="7964280" cy="3827520"/>
        </p:xfrm>
        <a:graphic>
          <a:graphicData uri="http://schemas.openxmlformats.org/drawingml/2006/table">
            <a:tbl>
              <a:tblPr/>
              <a:tblGrid>
                <a:gridCol w="2697120"/>
                <a:gridCol w="2633400"/>
                <a:gridCol w="263376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543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550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743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750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,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 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Мария Драчевская</dc:creator>
  <dc:description/>
  <dc:language>en-US</dc:language>
  <cp:lastModifiedBy>Драчевская</cp:lastModifiedBy>
  <dcterms:modified xsi:type="dcterms:W3CDTF">2020-01-22T05:46:06Z</dcterms:modified>
  <cp:revision>496</cp:revision>
  <dc:subject/>
  <dc:title>Слайд 1</dc:title>
</cp:coreProperties>
</file>