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jpeg" ContentType="image/jpe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EB223-E64A-4065-BB84-B5A58CF348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B54C4-2E81-4076-9C1E-C08DE4278E4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117C1-46D8-4A87-A36B-2EC44D090C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2745B-A6EB-4D92-9EBC-EF0AC46D732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08532-8AC2-4A8F-841A-23E357C44A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D6E1E-353C-4788-A458-9E5579C35F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6E0F3-5544-4F92-8058-C2FED276CFC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A6EFF-C158-451A-99D8-95B8FCD23FD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FA9DA-3117-445B-BAF6-D98B430A429F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E0510-4313-46E1-B7A5-7C4A501B781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53A38-EDDD-4B67-884C-E1B0748EE92B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5B65B-F7DF-42C7-A8A9-B5A79C437D60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B336D-88A3-4CDE-A33F-E295A7CCCE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D0118-8CEE-45B8-AE79-D5FF9E866EB5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8A3B5-801B-4DBB-A4B1-B63E63E88227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DC484-8974-44FE-A75E-CDFA261E69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47C4F-0466-4045-B5F0-6F8907BD6C4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0081B-C00E-4232-8398-FE6176C4E5E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0CB90-2E78-4CA5-A0B4-E0C54505682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A91B5-1571-433C-9060-6EEB2BD41F7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3D445-6F72-4267-90CE-DBE8E83751F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806BD-1B07-4858-9469-FD00188E538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488A0-DDC3-4281-B46F-D5640C4ACA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04E84-612E-467F-9224-C8DB29A163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8236D-B813-4FB3-AFA5-74E0EF75598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F69EE-90ED-49E5-880E-86994AA1BE7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36A0B-11D9-43B0-B4C5-A2B813EB3D1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5B85-B2F7-4FA5-B75A-4D0E3F004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DFFC6-83D3-434B-86CD-870E555AA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B122-B9AF-4269-92EE-51DB080B04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5A97-3371-4A96-9752-F9FA90D745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75F2-6399-4336-B109-BA666AEEA2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51C0-5429-4BE3-A6E4-F450D24BA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3823-A44C-478F-9686-2B4BF43CD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E20A-08A5-4698-9DA9-845DA5811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2ADB2-54EC-4092-B634-3F4204AE5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02FF-37CF-4DA0-85B4-D17F64A98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65D45-C015-448D-AD4A-48E2287F2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1247-7564-4934-B4DE-2130E8820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368A1E-F266-4032-8F6B-85A993B544B9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ВЕРХНЕРАГОЗЕЦ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4000" y="591012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3.12.2016 года № 31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17 год и плановый период 2018-2019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5429160" y="3286080"/>
            <a:ext cx="3213360" cy="26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G:\ФОТО ВУС\DSCF0843.JPG"/>
          <p:cNvPicPr/>
          <p:nvPr/>
        </p:nvPicPr>
        <p:blipFill>
          <a:blip r:embed="rId2"/>
          <a:stretch/>
        </p:blipFill>
        <p:spPr>
          <a:xfrm>
            <a:off x="1000080" y="3357720"/>
            <a:ext cx="3214800" cy="2500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player.myshared.ru/29/1306413/slides/slide_1.jpg"/>
          <p:cNvPicPr/>
          <p:nvPr/>
        </p:nvPicPr>
        <p:blipFill>
          <a:blip r:embed="rId3"/>
          <a:stretch/>
        </p:blipFill>
        <p:spPr>
          <a:xfrm>
            <a:off x="0" y="-671400"/>
            <a:ext cx="9252000" cy="75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19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36640"/>
          <a:ext cx="7345440" cy="4994280"/>
        </p:xfrm>
        <a:graphic>
          <a:graphicData uri="http://schemas.openxmlformats.org/drawingml/2006/table">
            <a:tbl>
              <a:tblPr/>
              <a:tblGrid>
                <a:gridCol w="525600"/>
                <a:gridCol w="4149720"/>
                <a:gridCol w="2670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820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701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8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25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5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7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44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2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5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9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0 и 2021 годы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1052640"/>
          <a:ext cx="7345440" cy="5149800"/>
        </p:xfrm>
        <a:graphic>
          <a:graphicData uri="http://schemas.openxmlformats.org/drawingml/2006/table">
            <a:tbl>
              <a:tblPr/>
              <a:tblGrid>
                <a:gridCol w="385920"/>
                <a:gridCol w="3043080"/>
                <a:gridCol w="1957320"/>
                <a:gridCol w="1959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084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1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32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8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8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2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3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6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10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13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98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4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2,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3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77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19 году 995,9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одержимое 4" descr="111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Содержимое 7"/>
          <p:cNvGraphicFramePr/>
          <p:nvPr/>
        </p:nvGraphicFramePr>
        <p:xfrm>
          <a:off x="4600440" y="1549440"/>
          <a:ext cx="3969000" cy="455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Содержимое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00440" y="1549440"/>
                    <a:ext cx="39690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0 году 834,2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Содержимое 4"/>
          <p:cNvGraphicFramePr/>
          <p:nvPr/>
        </p:nvGraphicFramePr>
        <p:xfrm>
          <a:off x="4595760" y="1550880"/>
          <a:ext cx="397836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Содержимое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5760" y="1550880"/>
                    <a:ext cx="397836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Содержимое 7" descr="IMG_0413.JPG"/>
          <p:cNvPicPr/>
          <p:nvPr/>
        </p:nvPicPr>
        <p:blipFill>
          <a:blip r:embed="rId3"/>
          <a:stretch/>
        </p:blipFill>
        <p:spPr>
          <a:xfrm>
            <a:off x="457200" y="2347920"/>
            <a:ext cx="403704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асходы бюджета Верхнерагозецкого сельсовета Советского района Курской области на культуру в 2021 году 857,1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4" descr="333.jpg"/>
          <p:cNvPicPr/>
          <p:nvPr/>
        </p:nvPicPr>
        <p:blipFill>
          <a:blip r:embed="rId1"/>
          <a:stretch/>
        </p:blipFill>
        <p:spPr>
          <a:xfrm>
            <a:off x="457200" y="2673360"/>
            <a:ext cx="4037040" cy="23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Содержимое 4"/>
          <p:cNvGraphicFramePr/>
          <p:nvPr/>
        </p:nvGraphicFramePr>
        <p:xfrm>
          <a:off x="4595760" y="1544760"/>
          <a:ext cx="3978360" cy="4566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Содержимое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95760" y="1544760"/>
                    <a:ext cx="397836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5840" y="2000160"/>
          <a:ext cx="8756640" cy="2675160"/>
        </p:xfrm>
        <a:graphic>
          <a:graphicData uri="http://schemas.openxmlformats.org/drawingml/2006/table">
            <a:tbl>
              <a:tblPr/>
              <a:tblGrid>
                <a:gridCol w="3854520"/>
                <a:gridCol w="1081080"/>
                <a:gridCol w="1584000"/>
                <a:gridCol w="1152720"/>
                <a:gridCol w="1084320"/>
              </a:tblGrid>
              <a:tr h="1065240"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0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1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65320">
                <a:tc>
                  <a:txBody>
                    <a:bodyPr lIns="36000" rIns="36000" tIns="227520" bIns="36000" anchor="t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600">
                <a:tc gridSpan="2"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9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4200" y="1143000"/>
          <a:ext cx="8294760" cy="5143680"/>
        </p:xfrm>
        <a:graphic>
          <a:graphicData uri="http://schemas.openxmlformats.org/drawingml/2006/table">
            <a:tbl>
              <a:tblPr/>
              <a:tblGrid>
                <a:gridCol w="5424480"/>
                <a:gridCol w="1650960"/>
                <a:gridCol w="121932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1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72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8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0 и 2021 годы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4200" y="1143000"/>
          <a:ext cx="8534520" cy="5170320"/>
        </p:xfrm>
        <a:graphic>
          <a:graphicData uri="http://schemas.openxmlformats.org/drawingml/2006/table">
            <a:tbl>
              <a:tblPr/>
              <a:tblGrid>
                <a:gridCol w="4305240"/>
                <a:gridCol w="1206720"/>
                <a:gridCol w="933480"/>
                <a:gridCol w="1106280"/>
                <a:gridCol w="119160"/>
                <a:gridCol w="86364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1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32,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4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9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7,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36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2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4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TextBox 2"/>
          <p:cNvGrpSpPr/>
          <p:nvPr/>
        </p:nvGrpSpPr>
        <p:grpSpPr>
          <a:xfrm>
            <a:off x="158760" y="384120"/>
            <a:ext cx="8893080" cy="622440"/>
            <a:chOff x="158760" y="384120"/>
            <a:chExt cx="8893080" cy="622440"/>
          </a:xfrm>
        </p:grpSpPr>
        <p:pic>
          <p:nvPicPr>
            <p:cNvPr id="103" name="TextBox 2" descr=""/>
            <p:cNvPicPr/>
            <p:nvPr/>
          </p:nvPicPr>
          <p:blipFill>
            <a:blip r:embed="rId1"/>
            <a:stretch/>
          </p:blipFill>
          <p:spPr>
            <a:xfrm>
              <a:off x="158760" y="384120"/>
              <a:ext cx="88930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79280" y="404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Расходы бюджета Верхнерагозецкого сельсовета Советского района Курской области на 2019 год в разрезе муниципальных программ (1)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TextBox 4"/>
          <p:cNvGrpSpPr/>
          <p:nvPr/>
        </p:nvGrpSpPr>
        <p:grpSpPr>
          <a:xfrm>
            <a:off x="122400" y="1006560"/>
            <a:ext cx="8966160" cy="706320"/>
            <a:chOff x="122400" y="1006560"/>
            <a:chExt cx="8966160" cy="706320"/>
          </a:xfrm>
        </p:grpSpPr>
        <p:pic>
          <p:nvPicPr>
            <p:cNvPr id="106" name="TextBox 4" descr=""/>
            <p:cNvPicPr/>
            <p:nvPr/>
          </p:nvPicPr>
          <p:blipFill>
            <a:blip r:embed="rId2"/>
            <a:stretch/>
          </p:blipFill>
          <p:spPr>
            <a:xfrm>
              <a:off x="122400" y="1006560"/>
              <a:ext cx="8966160" cy="70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179280" y="1052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Расходы на реализацию муниципальных программ Верхнерагозецкого сельсовета Советского района Курской области – 0,0 тыс. рублей, в том числе по направлениям: 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08" name=""/>
          <p:cNvGraphicFramePr/>
          <p:nvPr/>
        </p:nvGraphicFramePr>
        <p:xfrm>
          <a:off x="179280" y="1916280"/>
          <a:ext cx="8856720" cy="4817880"/>
        </p:xfrm>
        <a:graphic>
          <a:graphicData uri="http://schemas.openxmlformats.org/drawingml/2006/table">
            <a:tbl>
              <a:tblPr/>
              <a:tblGrid>
                <a:gridCol w="7624800"/>
                <a:gridCol w="12319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Развитие культуры в муниципальном образовании «Верхнерагозецкий сельсовет» Советского района Курской области "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5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укрепление материально-технической базы муниципального образования «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 имуществом и земельными ресурсами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Верхнерагозецкий сельсовет Советского района Курской области» Благоустройство населенных пунктов в Верхнерагозецком сельсовете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19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14720" y="3786120"/>
          <a:ext cx="4373280" cy="2286000"/>
        </p:xfrm>
        <a:graphic>
          <a:graphicData uri="http://schemas.openxmlformats.org/drawingml/2006/table">
            <a:tbl>
              <a:tblPr/>
              <a:tblGrid>
                <a:gridCol w="437328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шению Собрания депутатов Верхнерагозецкого сельсовета Советского района Курской области от 10 декабря 2018 года № 22 № «О бюджете Верхнерагозецкого сельсовета Советского района Курской области на 2019 год и плановый период 2020 и 2021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7" descr="777.jpg"/>
          <p:cNvPicPr/>
          <p:nvPr/>
        </p:nvPicPr>
        <p:blipFill>
          <a:blip r:embed="rId1"/>
          <a:stretch/>
        </p:blipFill>
        <p:spPr>
          <a:xfrm>
            <a:off x="457200" y="2516040"/>
            <a:ext cx="4037040" cy="269100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6" descr="555.jpg"/>
          <p:cNvPicPr/>
          <p:nvPr/>
        </p:nvPicPr>
        <p:blipFill>
          <a:blip r:embed="rId2"/>
          <a:stretch/>
        </p:blipFill>
        <p:spPr>
          <a:xfrm>
            <a:off x="4646520" y="2481120"/>
            <a:ext cx="40370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374760" y="631800"/>
            <a:ext cx="83944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20 и 2021 го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679320" y="3500280"/>
            <a:ext cx="7321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14720" y="3933720"/>
          <a:ext cx="4373280" cy="1901880"/>
        </p:xfrm>
        <a:graphic>
          <a:graphicData uri="http://schemas.openxmlformats.org/drawingml/2006/table">
            <a:tbl>
              <a:tblPr/>
              <a:tblGrid>
                <a:gridCol w="2187360"/>
                <a:gridCol w="2185920"/>
              </a:tblGrid>
              <a:tr h="53820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456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29"/>
          <p:cNvSpPr/>
          <p:nvPr/>
        </p:nvSpPr>
        <p:spPr>
          <a:xfrm>
            <a:off x="571680" y="220500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Верхнерагозецкого сельсовета Советского района Курской области на 2019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. Драчевская– начальник отдела бухгалтерского учёта и отчётности Верхнерагозец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Верхнерагозец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26, Курская область, Советский район д. Ефросим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Верхнерагозец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35-14, 89513274567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35-4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erhneragozeckiy@mail.ru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19 год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4028760"/>
                <a:gridCol w="393552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2019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507,7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701,9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4,2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20 и 2021 годов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2697120"/>
                <a:gridCol w="2633400"/>
                <a:gridCol w="263376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314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295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314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295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Мария Драчевская</dc:creator>
  <dc:description/>
  <dc:language>en-US</dc:language>
  <cp:lastModifiedBy>Драчевская</cp:lastModifiedBy>
  <dcterms:modified xsi:type="dcterms:W3CDTF">2019-03-11T06:33:42Z</dcterms:modified>
  <cp:revision>555</cp:revision>
  <dc:subject/>
  <dc:title>Слайд 1</dc:title>
</cp:coreProperties>
</file>