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C3251-B492-44F0-994A-9CD1BEEF71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03DA6-8F5A-4F07-8E5F-184130331D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9FA73-50AE-440F-AE8B-7EE72FC7F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C9577-D54E-48E5-B6C9-1B685104AFB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FE502-B0F9-4F3A-9217-D0490166B8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31A9D-1C49-49C7-AE60-3BC7F768A0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487A9-7E94-4FD3-9609-F666E49E9A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F8FF1-96D9-45E9-8371-7B5C1137F2DD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94D0D-54FC-419B-B0F8-AA6CF0E77DAF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40729-2732-4AC8-BDA5-E3F97FFE2C2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168C6-1A4F-4207-94ED-8395510733BF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95216-E8EA-42AE-A10D-93C36EF132E0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A9E79-BD1F-443D-B14D-97372A627AC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C650C-5CCC-46E8-8BF8-B7EC94CA8DAB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EA5C9-BE9F-4BE9-BC5D-A9A30D0A8918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3CB16-E30A-4A5A-9CE1-D4B66ED7F7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33C34-9C27-4C44-920C-DFB854B910F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6633C-5D0A-4100-980D-7033E650C89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12879-2306-4FDD-A726-18AB217F6B2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3EDAC-EFD8-4DF7-8C94-078218729A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CCAEA-57DD-45AC-9209-19BD2F49D59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3315E-C267-4805-88B0-FD77E5C66D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68942-824B-4345-B803-51ED99644B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FE215-63E3-4F55-874A-E64FE1DE04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6FB4E-8B3A-4EF4-870B-4AEF48E7ED1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97B87-5834-4ED5-A383-CABE6780C3F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5D538-3760-4E78-B7D0-62EBEF24D1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F472-79BF-4FFB-8AB4-99A9F833D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95FD-63BA-4BD3-BF16-0856808EC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A7EC-CF44-4C20-8B85-89432C32B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9063-1EBE-46F8-8BD8-A119051168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C90B-73F1-4B62-BC28-84151C992B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6A88-1675-45FC-B9EA-F9C10DE9C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F6D9-001A-4B8B-902E-E68EA1B53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6AB3-731C-42D6-ADC6-807033BF4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875C-192B-49D4-9070-E3E1DE1C6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70AD-7C71-42F5-AECA-A2993F38B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1114-BEC4-4CE5-A0E7-752128233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BFFB-412B-4152-983E-77753BE2F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8ECC5E-8BEC-4297-95B5-5309CD73D905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ВЕРХНЕРАГОЗЕЦ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4000" y="591012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3.12.2016 года № 31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Краснодолинского сельсовета Советского района  Курской области на 2017 год и плановый период 2018-2019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5429160" y="3286080"/>
            <a:ext cx="3213360" cy="26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G:\ФОТО ВУС\DSCF0843.JPG"/>
          <p:cNvPicPr/>
          <p:nvPr/>
        </p:nvPicPr>
        <p:blipFill>
          <a:blip r:embed="rId2"/>
          <a:stretch/>
        </p:blipFill>
        <p:spPr>
          <a:xfrm>
            <a:off x="1000080" y="3357720"/>
            <a:ext cx="3214800" cy="2500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player.myshared.ru/29/1306413/slides/slide_1.jpg"/>
          <p:cNvPicPr/>
          <p:nvPr/>
        </p:nvPicPr>
        <p:blipFill>
          <a:blip r:embed="rId3"/>
          <a:stretch/>
        </p:blipFill>
        <p:spPr>
          <a:xfrm>
            <a:off x="0" y="-671400"/>
            <a:ext cx="9252000" cy="75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18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36640"/>
          <a:ext cx="7345440" cy="4994280"/>
        </p:xfrm>
        <a:graphic>
          <a:graphicData uri="http://schemas.openxmlformats.org/drawingml/2006/table">
            <a:tbl>
              <a:tblPr/>
              <a:tblGrid>
                <a:gridCol w="525600"/>
                <a:gridCol w="4149720"/>
                <a:gridCol w="2670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820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52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8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22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5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2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44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24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7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9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19 и 2020 годы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1052640"/>
          <a:ext cx="7345440" cy="5149800"/>
        </p:xfrm>
        <a:graphic>
          <a:graphicData uri="http://schemas.openxmlformats.org/drawingml/2006/table">
            <a:tbl>
              <a:tblPr/>
              <a:tblGrid>
                <a:gridCol w="385920"/>
                <a:gridCol w="3043080"/>
                <a:gridCol w="1957320"/>
                <a:gridCol w="1959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084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1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32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0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8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8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2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3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6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10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13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98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4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2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3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77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18 году 857,1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4" descr="111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7040" cy="302724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7" descr=""/>
          <p:cNvPicPr/>
          <p:nvPr/>
        </p:nvPicPr>
        <p:blipFill>
          <a:blip r:embed="rId2"/>
          <a:stretch/>
        </p:blipFill>
        <p:spPr>
          <a:xfrm>
            <a:off x="4595760" y="1549440"/>
            <a:ext cx="413856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19 году 857,1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4" descr=""/>
          <p:cNvPicPr/>
          <p:nvPr/>
        </p:nvPicPr>
        <p:blipFill>
          <a:blip r:embed="rId1"/>
          <a:stretch/>
        </p:blipFill>
        <p:spPr>
          <a:xfrm>
            <a:off x="4595760" y="1549440"/>
            <a:ext cx="4138560" cy="462420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IMG_0413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70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0 году 857,1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4" descr="333.jpg"/>
          <p:cNvPicPr/>
          <p:nvPr/>
        </p:nvPicPr>
        <p:blipFill>
          <a:blip r:embed="rId1"/>
          <a:stretch/>
        </p:blipFill>
        <p:spPr>
          <a:xfrm>
            <a:off x="457200" y="2673360"/>
            <a:ext cx="403704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4" descr=""/>
          <p:cNvPicPr/>
          <p:nvPr/>
        </p:nvPicPr>
        <p:blipFill>
          <a:blip r:embed="rId2"/>
          <a:stretch/>
        </p:blipFill>
        <p:spPr>
          <a:xfrm>
            <a:off x="4595760" y="1549440"/>
            <a:ext cx="413856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85840" y="2000160"/>
          <a:ext cx="8756640" cy="2675160"/>
        </p:xfrm>
        <a:graphic>
          <a:graphicData uri="http://schemas.openxmlformats.org/drawingml/2006/table">
            <a:tbl>
              <a:tblPr/>
              <a:tblGrid>
                <a:gridCol w="3854520"/>
                <a:gridCol w="1081080"/>
                <a:gridCol w="1584000"/>
                <a:gridCol w="1152720"/>
                <a:gridCol w="1084320"/>
              </a:tblGrid>
              <a:tr h="1065240"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8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9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0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65320">
                <a:tc>
                  <a:txBody>
                    <a:bodyPr lIns="36000" rIns="36000" tIns="227520" bIns="36000" anchor="t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4600">
                <a:tc gridSpan="2"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8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14200" y="1143000"/>
          <a:ext cx="8294760" cy="5143680"/>
        </p:xfrm>
        <a:graphic>
          <a:graphicData uri="http://schemas.openxmlformats.org/drawingml/2006/table">
            <a:tbl>
              <a:tblPr/>
              <a:tblGrid>
                <a:gridCol w="5424480"/>
                <a:gridCol w="1650960"/>
                <a:gridCol w="121932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52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Нижнеграйворон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4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72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48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9 и 2020 годы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4200" y="1143000"/>
          <a:ext cx="8534520" cy="5170320"/>
        </p:xfrm>
        <a:graphic>
          <a:graphicData uri="http://schemas.openxmlformats.org/drawingml/2006/table">
            <a:tbl>
              <a:tblPr/>
              <a:tblGrid>
                <a:gridCol w="4305240"/>
                <a:gridCol w="1206720"/>
                <a:gridCol w="933480"/>
                <a:gridCol w="1106280"/>
                <a:gridCol w="119160"/>
                <a:gridCol w="86364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1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32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4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Нижнеграйворон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9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7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36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2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4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TextBox 2"/>
          <p:cNvGrpSpPr/>
          <p:nvPr/>
        </p:nvGrpSpPr>
        <p:grpSpPr>
          <a:xfrm>
            <a:off x="158760" y="384120"/>
            <a:ext cx="8893080" cy="622440"/>
            <a:chOff x="158760" y="384120"/>
            <a:chExt cx="8893080" cy="622440"/>
          </a:xfrm>
        </p:grpSpPr>
        <p:pic>
          <p:nvPicPr>
            <p:cNvPr id="100" name="TextBox 2" descr=""/>
            <p:cNvPicPr/>
            <p:nvPr/>
          </p:nvPicPr>
          <p:blipFill>
            <a:blip r:embed="rId1"/>
            <a:stretch/>
          </p:blipFill>
          <p:spPr>
            <a:xfrm>
              <a:off x="158760" y="384120"/>
              <a:ext cx="88930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9280" y="404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Расходы бюджета Верхнерагозецкого сельсовета Советского района Курской области на 2018 год в разрезе муниципальных программ (1)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TextBox 4"/>
          <p:cNvGrpSpPr/>
          <p:nvPr/>
        </p:nvGrpSpPr>
        <p:grpSpPr>
          <a:xfrm>
            <a:off x="122400" y="1006560"/>
            <a:ext cx="8966160" cy="706320"/>
            <a:chOff x="122400" y="1006560"/>
            <a:chExt cx="8966160" cy="706320"/>
          </a:xfrm>
        </p:grpSpPr>
        <p:pic>
          <p:nvPicPr>
            <p:cNvPr id="103" name="TextBox 4" descr=""/>
            <p:cNvPicPr/>
            <p:nvPr/>
          </p:nvPicPr>
          <p:blipFill>
            <a:blip r:embed="rId2"/>
            <a:stretch/>
          </p:blipFill>
          <p:spPr>
            <a:xfrm>
              <a:off x="122400" y="1006560"/>
              <a:ext cx="89661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9280" y="1052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Расходы на реализацию муниципальных программ Верхнерагозецкого сельсовета Советского района Курской области – 0,0 тыс. рублей, в том числе по направлениям: 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179280" y="1916280"/>
          <a:ext cx="8856720" cy="4817880"/>
        </p:xfrm>
        <a:graphic>
          <a:graphicData uri="http://schemas.openxmlformats.org/drawingml/2006/table">
            <a:tbl>
              <a:tblPr/>
              <a:tblGrid>
                <a:gridCol w="7624800"/>
                <a:gridCol w="12319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Развитие культуры в муниципальном образовании «Верхнерагозецкий сельсовет» Советского района Курской области "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7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 Верхнерагозецкого сельсовета Советского района Курской области на 2015-2020 годы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укрепление материально-технической базы муниципального образования «Верхнерагозецкий сельсовет Советского района Курской области» на 2016-2020 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Верхнерагозец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правление муниципальным имуществом и земельными ресурсами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Верхнерагозецкий сельсовет Советского района Курской области» Благоустройство населенных пунктов в Верхнерагозецком сельсовете Советского района Курской области на 2017-2019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18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14720" y="3786120"/>
          <a:ext cx="4373280" cy="2286000"/>
        </p:xfrm>
        <a:graphic>
          <a:graphicData uri="http://schemas.openxmlformats.org/drawingml/2006/table">
            <a:tbl>
              <a:tblPr/>
              <a:tblGrid>
                <a:gridCol w="437328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0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шению Собрания депутатов Верхнерагозецкого сельсовета Советского района Курской области от 07 декабря 2017 года № 23 № «О бюджете муниципального образования «Верхнерагозецкий сельсовет» Советского района Курской области на 2018 год и плановый период 2019 и 2020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7" descr="777.jpg"/>
          <p:cNvPicPr/>
          <p:nvPr/>
        </p:nvPicPr>
        <p:blipFill>
          <a:blip r:embed="rId1"/>
          <a:stretch/>
        </p:blipFill>
        <p:spPr>
          <a:xfrm>
            <a:off x="457200" y="2516040"/>
            <a:ext cx="4037040" cy="269100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6" descr="555.jpg"/>
          <p:cNvPicPr/>
          <p:nvPr/>
        </p:nvPicPr>
        <p:blipFill>
          <a:blip r:embed="rId2"/>
          <a:stretch/>
        </p:blipFill>
        <p:spPr>
          <a:xfrm>
            <a:off x="4646520" y="2481120"/>
            <a:ext cx="40370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374760" y="631800"/>
            <a:ext cx="83944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19 и 2020 год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79320" y="3500280"/>
            <a:ext cx="7321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14720" y="3933720"/>
          <a:ext cx="4373280" cy="1901880"/>
        </p:xfrm>
        <a:graphic>
          <a:graphicData uri="http://schemas.openxmlformats.org/drawingml/2006/table">
            <a:tbl>
              <a:tblPr/>
              <a:tblGrid>
                <a:gridCol w="2187360"/>
                <a:gridCol w="2185920"/>
              </a:tblGrid>
              <a:tr h="53820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456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5" name="Text Box 29"/>
          <p:cNvSpPr/>
          <p:nvPr/>
        </p:nvSpPr>
        <p:spPr>
          <a:xfrm>
            <a:off x="571680" y="220500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Верхнерагозецкого сельсовета Советского района Курской области на 2016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. Драчевская– начальник отдела бухгалтерского учёта и отчётности Верхнерагозец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Верхнерагозец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26, Курская область, Советский район д. Ефросимов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Верхнерагозец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35-14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35-4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erhneragozeckiy@mail.ru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18 год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4028760"/>
                <a:gridCol w="393552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201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027,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152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5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19 и 2020 годов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2697120"/>
                <a:gridCol w="2633400"/>
                <a:gridCol w="263376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625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606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 751,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 732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5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6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Мария Драчевская</dc:creator>
  <dc:description/>
  <dc:language>en-US</dc:language>
  <cp:lastModifiedBy>Елена</cp:lastModifiedBy>
  <dcterms:modified xsi:type="dcterms:W3CDTF">2018-03-12T13:55:25Z</dcterms:modified>
  <cp:revision>489</cp:revision>
  <dc:subject/>
  <dc:title>Слайд 1</dc:title>
</cp:coreProperties>
</file>